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59A6-B5C4-4EF2-A0B8-A51FD9441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8BBA-E464-4C53-A39B-826ECB27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E775-6BC1-482D-AB1C-BAE91C1E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4DF3-B7CE-429D-8C75-A9C9A529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B469-34CD-40FD-BBF3-D20C3759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985-4F44-484A-9437-7AA6C77D5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5F92-FEAE-4A22-AC14-5DC427FB8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CB94-9566-4537-A6D7-2E6B992E9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0225-9448-40AA-B278-3EBE492C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980C-81AF-47B6-9C50-5AF2AA5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B8C2-A0DE-463A-8B3C-A9D944B5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922-D0A6-4FAA-B30D-4048E268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DAB3-3D17-4CDB-97EB-C0DD08C94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scholaris.pl/cms/index.php/resources/animacja_cechy_dominuj&#261;ce_i_recesywne.html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entm.purdue.edu/extensiongenomics/GAME/pinkflowers.htm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284720" y="1125000"/>
            <a:ext cx="4268880" cy="229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993300"/>
                </a:solidFill>
                <a:latin typeface="Comic Sans MS"/>
              </a:rPr>
              <a:t>Monohibridinis ir dihibridinis kryžm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508720" y="458136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000000"/>
                </a:solidFill>
                <a:latin typeface="Comic Sans MS"/>
              </a:rPr>
              <a:t>Mendelio dėsni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6047" t="0" r="7246" b="0"/>
          <a:stretch/>
        </p:blipFill>
        <p:spPr>
          <a:xfrm>
            <a:off x="250920" y="189000"/>
            <a:ext cx="4046400" cy="604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Monohibridinis kryžm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490680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Comic Sans MS"/>
              </a:rPr>
              <a:t>Vykdomas, kai tiriamas vieno požymio paveldėjimas: (pvz.: žiedo spalva, vaisiaus forma, plaukų ar akių spalva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Comic Sans MS"/>
              </a:rPr>
              <a:t>Mendelis kryžmino žirnius su skirtingais požymiais, ir tyrė palikuonių požym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384720" cy="36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2771640" y="2421000"/>
          <a:ext cx="3538440" cy="2576520"/>
        </p:xfrm>
        <a:graphic>
          <a:graphicData uri="http://schemas.openxmlformats.org/drawingml/2006/table">
            <a:tbl>
              <a:tblPr/>
              <a:tblGrid>
                <a:gridCol w="792000"/>
                <a:gridCol w="1152720"/>
                <a:gridCol w="159372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" name=""/>
          <p:cNvSpPr/>
          <p:nvPr/>
        </p:nvSpPr>
        <p:spPr>
          <a:xfrm>
            <a:off x="1261080" y="134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2160" y="13413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760" y="25812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89440" y="256536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43280" y="70956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343280" y="1285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343280" y="207792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43280" y="2870280"/>
            <a:ext cx="82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rot="16201200">
            <a:off x="4521240" y="957960"/>
            <a:ext cx="957240" cy="1866960"/>
          </a:xfrm>
          <a:custGeom>
            <a:avLst/>
            <a:gdLst>
              <a:gd name="textAreaLeft" fmla="*/ 611640 w 957240"/>
              <a:gd name="textAreaRight" fmla="*/ 957600 w 957240"/>
              <a:gd name="textAreaTop" fmla="*/ 48600 h 1866960"/>
              <a:gd name="textAreaBottom" fmla="*/ 1818360 h 1866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23"/>
                </a:lnTo>
                <a:cubicBezTo>
                  <a:pt x="10800" y="10123"/>
                  <a:pt x="5400" y="11023"/>
                  <a:pt x="0" y="11023"/>
                </a:cubicBezTo>
                <a:cubicBezTo>
                  <a:pt x="5400" y="11023"/>
                  <a:pt x="10800" y="11923"/>
                  <a:pt x="10800" y="12823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40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35280" y="3068640"/>
            <a:ext cx="720720" cy="1873080"/>
          </a:xfrm>
          <a:custGeom>
            <a:avLst/>
            <a:gdLst>
              <a:gd name="textAreaLeft" fmla="*/ 460440 w 720720"/>
              <a:gd name="textAreaRight" fmla="*/ 721080 w 72072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308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43200" y="10270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oteriškos gam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79080" y="4558680"/>
            <a:ext cx="235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Vyriškos game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40000" y="55897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- dominuojantis požy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- recesyvinis požy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60280"/>
            <a:ext cx="280836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geltonos sėk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- žalios sėk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- homozigotas, geltonomis sėklo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X – kryžminimo ženk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a-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homozigotas žaliomis sėklo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a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- heterozigotas geltonomis sėklom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68360" y="26028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AA    X   aa 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  A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187280" y="692280"/>
            <a:ext cx="1944720" cy="93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1619280" y="692280"/>
            <a:ext cx="1944720" cy="93636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042560" y="692280"/>
            <a:ext cx="3816360" cy="22320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402920" y="620640"/>
            <a:ext cx="3745080" cy="23036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785 0.0222 L 0.29288 0.14824 E">
                                      <p:cBhvr>
                                        <p:cTn id="105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9.89824E-007 L 0.46579 0.15865 E">
                                      <p:cBhvr>
                                        <p:cTn id="109" dur="2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31 -0.00116 L 0.22517 0.09343 E">
                                      <p:cBhvr>
                                        <p:cTn id="11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-0.01966 L 0.19514 0.2426 E">
                                      <p:cBhvr>
                                        <p:cTn id="117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0.01989 L -0.40365 0.37534 E">
                                      <p:cBhvr>
                                        <p:cTn id="127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52 0.00925 L -0.26962 0.2715 E">
                                      <p:cBhvr>
                                        <p:cTn id="137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51 0.05134 L -0.41146 0.29278 E">
                                      <p:cBhvr>
                                        <p:cTn id="147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75 0.01989 L -0.26181 0.18756 E">
                                      <p:cBhvr>
                                        <p:cTn id="157" dur="2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640720" cy="61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Požymis: sėklos pavirš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Aleliai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: 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 – </a:t>
            </a: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lygios sėklos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 – </a:t>
            </a: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raukšlėtos s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Kryžminimas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: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Lygios sėklos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aukšlėtos s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400" spc="-1" strike="noStrike">
                <a:solidFill>
                  <a:srgbClr val="993300"/>
                </a:solidFill>
                <a:latin typeface="Comic Sans MS"/>
              </a:rPr>
              <a:t>P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♀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R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♂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 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3300"/>
                </a:solidFill>
                <a:latin typeface="Comic Sans MS"/>
              </a:rPr>
              <a:t>Gametos: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♀ 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  <a:ea typeface="Arial"/>
              </a:rPr>
              <a:t>R ; R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  ♂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 r;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826920" y="3429000"/>
          <a:ext cx="2675160" cy="2643120"/>
        </p:xfrm>
        <a:graphic>
          <a:graphicData uri="http://schemas.openxmlformats.org/drawingml/2006/table">
            <a:tbl>
              <a:tblPr/>
              <a:tblGrid>
                <a:gridCol w="892440"/>
                <a:gridCol w="890640"/>
                <a:gridCol w="892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 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826920" y="3429000"/>
            <a:ext cx="8654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8352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818440" y="29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11400" y="47242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2680" y="551664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124000" y="2708280"/>
            <a:ext cx="21600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16360" y="2637000"/>
            <a:ext cx="21564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258560" y="2637000"/>
            <a:ext cx="230508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332000" y="2852640"/>
            <a:ext cx="2448000" cy="28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9200" y="3645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5280" y="4581360"/>
            <a:ext cx="576000" cy="576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71640" y="4581360"/>
            <a:ext cx="576360" cy="576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5445000"/>
            <a:ext cx="576000" cy="576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71640" y="5373720"/>
            <a:ext cx="576360" cy="576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79640" y="3860640"/>
            <a:ext cx="216000" cy="11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187280" y="4869000"/>
            <a:ext cx="1081080" cy="7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84720" y="2421000"/>
            <a:ext cx="4535280" cy="374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Atsaky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Genotipas :Rr (heterozig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Fenotipas – lygios s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F</a:t>
            </a:r>
            <a:r>
              <a:rPr b="1" i="1" lang="en-US" sz="1200" spc="-1" strike="noStrike">
                <a:solidFill>
                  <a:srgbClr val="cc3300"/>
                </a:solidFill>
                <a:latin typeface="Comic Sans MS"/>
              </a:rPr>
              <a:t>1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: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visi individ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Heterozigotai lygiom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sėklo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3.05273E-006 L 0.00434 0.10314 E">
                                      <p:cBhvr>
                                        <p:cTn id="193" dur="2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05273E-006 L 0.00452 0.09274 E">
                                      <p:cBhvr>
                                        <p:cTn id="197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4.11656E-006 L 0.09531 -0.00161 E">
                                      <p:cBhvr>
                                        <p:cTn id="20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47826E-006 L 0.07951 -0.00162 E">
                                      <p:cBhvr>
                                        <p:cTn id="205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I Mendelio dės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Kryžminant homozigotus F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1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 kartoje visi palikuonys turėsheterozigotinį genotipą ir vienodą dominuojančio požymio fenotip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Pirmasis Mendelio dėsnis</a:t>
            </a:r>
            <a:r>
              <a:rPr b="1" i="1" lang="lt-LT" sz="3200" spc="-1" strike="noStrike">
                <a:solidFill>
                  <a:srgbClr val="cc3300"/>
                </a:solidFill>
                <a:latin typeface="Comic Sans MS"/>
                <a:ea typeface="Arial"/>
              </a:rPr>
              <a:t> -Pirmos kartos vienodumo taisyklė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372360" y="4292640"/>
            <a:ext cx="16761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83628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Požymis: sėklos paviršius ( kryžminame F</a:t>
            </a:r>
            <a:r>
              <a:rPr b="1" i="1" lang="en-US" sz="2400" spc="-1" strike="noStrike">
                <a:solidFill>
                  <a:srgbClr val="724c26"/>
                </a:solidFill>
                <a:latin typeface="Comic Sans MS"/>
              </a:rPr>
              <a:t>1</a:t>
            </a: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 kartos hibrid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Aleliai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: 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 – </a:t>
            </a: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lygios sėklos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        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 – </a:t>
            </a: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raukšlėtos s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724c26"/>
                </a:solidFill>
                <a:latin typeface="Comic Sans MS"/>
              </a:rPr>
              <a:t>Kryžminimas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: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Lygios sėklos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Lygios s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GB" sz="2400" spc="-1" strike="noStrike">
                <a:solidFill>
                  <a:srgbClr val="993300"/>
                </a:solidFill>
                <a:latin typeface="Comic Sans MS"/>
              </a:rPr>
              <a:t>P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♀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 </a:t>
            </a:r>
            <a:r>
              <a:rPr b="1" i="1" lang="en-GB" sz="2400" spc="-1" strike="noStrike">
                <a:solidFill>
                  <a:srgbClr val="724c26"/>
                </a:solidFill>
                <a:latin typeface="Comic Sans MS"/>
              </a:rPr>
              <a:t>x</a:t>
            </a:r>
            <a:r>
              <a:rPr b="1" i="1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♂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r>
              <a:rPr b="1" i="1" lang="en-GB" sz="2400" spc="-1" strike="noStrike">
                <a:solidFill>
                  <a:srgbClr val="cc33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3300"/>
                </a:solidFill>
                <a:latin typeface="Comic Sans MS"/>
              </a:rPr>
              <a:t>Gametos: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♀ </a:t>
            </a:r>
            <a:r>
              <a:rPr b="1" i="1" lang="en-GB" sz="2800" spc="-1" strike="noStrike">
                <a:solidFill>
                  <a:srgbClr val="cc3300"/>
                </a:solidFill>
                <a:latin typeface="Comic Sans MS"/>
                <a:ea typeface="Arial"/>
              </a:rPr>
              <a:t>R ; </a:t>
            </a:r>
            <a:r>
              <a:rPr b="1" i="1" lang="lt-LT" sz="2800" spc="-1" strike="noStrike">
                <a:solidFill>
                  <a:srgbClr val="cc3300"/>
                </a:solidFill>
                <a:latin typeface="Comic Sans MS"/>
                <a:ea typeface="Arial"/>
              </a:rPr>
              <a:t>r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 ♂</a:t>
            </a:r>
            <a:r>
              <a:rPr b="1" i="1" lang="en-GB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i="1" lang="lt-LT" sz="2800" spc="-1" strike="noStrike">
                <a:solidFill>
                  <a:srgbClr val="cc3300"/>
                </a:solidFill>
                <a:latin typeface="Comic Sans MS"/>
              </a:rPr>
              <a:t>R </a:t>
            </a:r>
            <a:r>
              <a:rPr b="1" i="1" lang="en-GB" sz="2800" spc="-1" strike="noStrike">
                <a:solidFill>
                  <a:srgbClr val="cc3300"/>
                </a:solidFill>
                <a:latin typeface="Comic Sans MS"/>
              </a:rPr>
              <a:t>;</a:t>
            </a:r>
            <a:r>
              <a:rPr b="1" i="1" lang="lt-LT" sz="2800" spc="-1" strike="noStrike">
                <a:solidFill>
                  <a:srgbClr val="cc3300"/>
                </a:solidFill>
                <a:latin typeface="Comic Sans MS"/>
              </a:rPr>
              <a:t> </a:t>
            </a:r>
            <a:r>
              <a:rPr b="1" i="1" lang="en-GB" sz="2800" spc="-1" strike="noStrike">
                <a:solidFill>
                  <a:srgbClr val="cc3300"/>
                </a:solidFill>
                <a:latin typeface="Comic Sans MS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3716280"/>
            <a:ext cx="86544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826920" y="3716280"/>
          <a:ext cx="2459160" cy="2909880"/>
        </p:xfrm>
        <a:graphic>
          <a:graphicData uri="http://schemas.openxmlformats.org/drawingml/2006/table">
            <a:tbl>
              <a:tblPr/>
              <a:tblGrid>
                <a:gridCol w="820800"/>
                <a:gridCol w="817560"/>
                <a:gridCol w="820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  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28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"/>
          <p:cNvSpPr/>
          <p:nvPr/>
        </p:nvSpPr>
        <p:spPr>
          <a:xfrm>
            <a:off x="1692360" y="3860640"/>
            <a:ext cx="71892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4941720"/>
            <a:ext cx="71928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00000" y="5805360"/>
            <a:ext cx="71928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484360" y="3860640"/>
            <a:ext cx="71928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692360" y="4941720"/>
            <a:ext cx="71892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484360" y="4869000"/>
            <a:ext cx="719280" cy="647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5805360"/>
            <a:ext cx="718920" cy="6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5877000"/>
            <a:ext cx="719280" cy="647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51280" y="2421000"/>
            <a:ext cx="4968720" cy="374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Atsaky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Genotipa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i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 :Rr (heterozig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           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R (homozig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           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r (homozigo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Fenotipa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I: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 – lygios s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             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raukšlėtos sėk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F</a:t>
            </a:r>
            <a:r>
              <a:rPr b="1" i="1" lang="en-US" sz="1200" spc="-1" strike="noStrike">
                <a:solidFill>
                  <a:srgbClr val="cc3300"/>
                </a:solidFill>
                <a:latin typeface="Comic Sans MS"/>
              </a:rPr>
              <a:t>2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: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Genotipai: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1:2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   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Fenotipai: 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2360" y="38606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II </a:t>
            </a: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Mendelio dėsn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Kryžminant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F1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kartos heterozigotinius organizmus tarpusavyje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F2 kartoje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gauname palikuonis, kuriu požy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iai pagal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feno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t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ipą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išsiskiria santykiu </a:t>
            </a:r>
            <a:r>
              <a:rPr b="1" i="1" lang="en-US" sz="2400" spc="-1" strike="noStrike">
                <a:solidFill>
                  <a:srgbClr val="cc3300"/>
                </a:solidFill>
                <a:latin typeface="Comic Sans MS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03640" y="2997360"/>
            <a:ext cx="2733480" cy="302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00200" y="528480"/>
            <a:ext cx="5943600" cy="5801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265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74" dur="1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Užduo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218440" cy="31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Ruda pel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ė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 susiporavo su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juoda pele. Visi pirmosios kartos palikuonys gimė juo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Nurodyk, kuris kailio spalvos alelis dominuoja, kuris – recesyvinis ir sudaryk kry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ž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minimo shem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Paaiškink, kodėl pirmos kartos palikuonys gimė juod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r gali dvi juodos pelės susilaukti rudų palikuonių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Atsakymą iliustruok braižydamas kryžminimo schem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46361"/>
          <a:stretch/>
        </p:blipFill>
        <p:spPr>
          <a:xfrm>
            <a:off x="2627280" y="4373640"/>
            <a:ext cx="4259160" cy="1901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Atsaky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125360"/>
            <a:ext cx="3168720" cy="1656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- juoda kailio spa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- ruda kailio spa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♂ aa X ♀ 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ametos :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♂ a ;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                 ♀ 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 ; 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3068640"/>
            <a:ext cx="3889440" cy="2374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476360" y="3357720"/>
          <a:ext cx="2471760" cy="2050920"/>
        </p:xfrm>
        <a:graphic>
          <a:graphicData uri="http://schemas.openxmlformats.org/drawingml/2006/table">
            <a:tbl>
              <a:tblPr/>
              <a:tblGrid>
                <a:gridCol w="824040"/>
                <a:gridCol w="824040"/>
                <a:gridCol w="8236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"/>
          <p:cNvSpPr/>
          <p:nvPr/>
        </p:nvSpPr>
        <p:spPr>
          <a:xfrm>
            <a:off x="396720" y="324180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547640" y="3429000"/>
            <a:ext cx="720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549080" y="37162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1080" y="335772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39440" y="35067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31440" y="34336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39160" y="415440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39160" y="487512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22440" y="414972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87520" y="4221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22440" y="4869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287520" y="4869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27640" y="1052640"/>
            <a:ext cx="3889440" cy="1655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- juoda kailio spa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- ruda kailio spal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♂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 X ♀ A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ametos :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♂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 ;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                 ♀  </a:t>
            </a:r>
            <a:r>
              <a:rPr b="0" lang="lt-LT" sz="2000" spc="-1" strike="noStrike">
                <a:solidFill>
                  <a:srgbClr val="000000"/>
                </a:solidFill>
                <a:latin typeface="Comic Sans MS"/>
              </a:rPr>
              <a:t>A ;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006440" y="83664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62064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00720" y="2781360"/>
            <a:ext cx="3889080" cy="2374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5589720"/>
            <a:ext cx="4392720" cy="93636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otipas – heterozigotas: 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notipas : Juoda kailio spa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Ats.: F1 kartos palikuonys visi juo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28880" y="2852640"/>
            <a:ext cx="65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651640" y="2924280"/>
          <a:ext cx="2471760" cy="2124000"/>
        </p:xfrm>
        <a:graphic>
          <a:graphicData uri="http://schemas.openxmlformats.org/drawingml/2006/table">
            <a:tbl>
              <a:tblPr/>
              <a:tblGrid>
                <a:gridCol w="823680"/>
                <a:gridCol w="824040"/>
                <a:gridCol w="824040"/>
              </a:tblGrid>
              <a:tr h="72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6676560" y="306864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84200" y="378936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0760" y="30686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936400" y="450864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9152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70800" y="44370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593040" y="3789360"/>
            <a:ext cx="56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68920" y="4437000"/>
            <a:ext cx="5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86160" y="292428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52720" y="328464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51640" y="2924280"/>
            <a:ext cx="7207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00720" y="5229360"/>
            <a:ext cx="4464000" cy="1628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enotipas – heterozigotas: A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Homozigotas: AA( juodi) ; aa(rud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Fenotipas : Juoda kailio spa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Ruda kailio mspa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Ats.: F2 kartos palikuonys 75% juodi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Arial"/>
              </a:rPr>
              <a:t>25 % ru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Analizuojamasis kry</a:t>
            </a: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ž</a:t>
            </a: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min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468360" y="2637000"/>
            <a:ext cx="8075520" cy="3689280"/>
            <a:chOff x="468360" y="2637000"/>
            <a:chExt cx="8075520" cy="3689280"/>
          </a:xfrm>
        </p:grpSpPr>
        <p:pic>
          <p:nvPicPr>
            <p:cNvPr id="179" name="" descr=""/>
            <p:cNvPicPr/>
            <p:nvPr/>
          </p:nvPicPr>
          <p:blipFill>
            <a:blip r:embed="rId1"/>
            <a:stretch/>
          </p:blipFill>
          <p:spPr>
            <a:xfrm>
              <a:off x="468360" y="2637000"/>
              <a:ext cx="8075520" cy="36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 txBox="1"/>
            <p:nvPr/>
          </p:nvSpPr>
          <p:spPr>
            <a:xfrm>
              <a:off x="468360" y="2637000"/>
              <a:ext cx="8075520" cy="3689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140360" y="4365720"/>
            <a:ext cx="86328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R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1268280"/>
            <a:ext cx="8713800" cy="1368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nalizuojamasis kryžminimas atliekamas, norint nustaty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r individas turintis dominuojančio požym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io 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fenotipą y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heterozigotas 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r </a:t>
            </a:r>
            <a:r>
              <a:rPr b="1" i="1" lang="lt-LT" sz="2400" spc="-1" strike="noStrike">
                <a:solidFill>
                  <a:srgbClr val="cc3300"/>
                </a:solidFill>
                <a:latin typeface="Comic Sans MS"/>
              </a:rPr>
              <a:t>homozigo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Comic Sans MS"/>
              </a:rPr>
              <a:t>Gregoras Mendelis (1822-1884</a:t>
            </a:r>
            <a:r>
              <a:rPr b="1" lang="en-US" sz="4000" spc="-1" strike="noStrike">
                <a:solidFill>
                  <a:srgbClr val="cc3300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987280" y="980640"/>
            <a:ext cx="59770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Gyveno Austrijoje, buvo vienuolis, gamtos mokyto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Pasirinkęs žirnius, kaip tyrimo objektus, jis pirmasis išaiškino kaip paveldimi požymia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ugebėjo apskaičiuoti paveldėjimo dėsningumus dar prieš atrandant genus ir DN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0" r="10269" b="3974"/>
          <a:stretch/>
        </p:blipFill>
        <p:spPr>
          <a:xfrm>
            <a:off x="539640" y="1125360"/>
            <a:ext cx="2222640" cy="27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8893080" cy="5832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725796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Nepilnas dominav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10288"/>
          <a:stretch/>
        </p:blipFill>
        <p:spPr>
          <a:xfrm>
            <a:off x="468360" y="765000"/>
            <a:ext cx="8351640" cy="540072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708360" y="3357720"/>
            <a:ext cx="2160720" cy="4316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Rožinis ( Ww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62800" y="106920"/>
            <a:ext cx="54064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Gėlininkas sukryžmino tos pačios rūši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et skirtinga spalva (raudona ir balta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žydėjusias gėles. Po to surinko j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brendusias sėklas.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Kitais metais iš sėklų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išaugo tik rausvai žydintys augala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40" y="1699200"/>
            <a:ext cx="5911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Užrašykite gėlininko kryžminamų gėlių 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iš jų sėkl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išaugintų augalų  genotipus simboliai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Alelius žymėkit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 raidėmis A ir 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306720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2. Gėlininkas sukryžmino rausvai žydinčius augalus, tikėdamasis gauti sėklų, iš kurių i</a:t>
            </a:r>
            <a:r>
              <a:rPr b="1" i="1" lang="lt-LT" sz="2000" spc="-1" strike="noStrike">
                <a:solidFill>
                  <a:srgbClr val="000000"/>
                </a:solidFill>
                <a:latin typeface="Comic Sans MS"/>
              </a:rPr>
              <a:t>š</a:t>
            </a:r>
            <a:r>
              <a:rPr b="1" i="1" lang="pt-BR" sz="2000" spc="-1" strike="noStrike">
                <a:solidFill>
                  <a:srgbClr val="000000"/>
                </a:solidFill>
                <a:latin typeface="Comic Sans MS"/>
              </a:rPr>
              <a:t>augtų kiek galima įvairesnių spalvų žiedus turintys augalai. Genetiniais simboliais užrašykite ir paaiškinkite, kodėl gėlininkas pasirinko rausvai žydinčius auga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28400" y="5659920"/>
            <a:ext cx="70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3. Kaip vadinamas nurody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as paveldėjimo tipa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rcRect l="31685" t="0" r="0" b="2553"/>
          <a:stretch/>
        </p:blipFill>
        <p:spPr>
          <a:xfrm>
            <a:off x="5580000" y="333360"/>
            <a:ext cx="3564000" cy="5327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84720" y="1557360"/>
            <a:ext cx="57492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388360" y="1557360"/>
            <a:ext cx="75564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812000" y="2276640"/>
            <a:ext cx="574920" cy="3585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443640" y="3500280"/>
            <a:ext cx="57456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96360" y="3500280"/>
            <a:ext cx="57456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A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804000" y="4149720"/>
            <a:ext cx="43200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72360" y="4581360"/>
            <a:ext cx="43164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4149720"/>
            <a:ext cx="43200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300720" y="5157720"/>
            <a:ext cx="432000" cy="35892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138320" y="1467000"/>
            <a:ext cx="6867360" cy="392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0" dur="52000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8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5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0" t="924" r="0" b="26848"/>
          <a:stretch/>
        </p:blipFill>
        <p:spPr>
          <a:xfrm>
            <a:off x="395280" y="404640"/>
            <a:ext cx="8497800" cy="56167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835280" y="260280"/>
            <a:ext cx="107928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72360" y="476280"/>
            <a:ext cx="107928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03640" y="3068640"/>
            <a:ext cx="107964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00000" y="5877000"/>
            <a:ext cx="107964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916360" y="5877000"/>
            <a:ext cx="107928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859280" y="5805360"/>
            <a:ext cx="1079640" cy="5050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877080" y="5950080"/>
            <a:ext cx="1079640" cy="5047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1484280"/>
            <a:ext cx="2160720" cy="2448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Kokios spal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lunks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minuojant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ymi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Koks paveld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ė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jimas pavaizduo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tas schemoj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88000" y="1268280"/>
            <a:ext cx="2411640" cy="252108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ukryžminus balt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aidį su juoda viš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irmoje karto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likuon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buvo visi marg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08960" y="1219320"/>
            <a:ext cx="726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scholaris.pl/cms/index.php/resources/animacja_cechy_dominuj%C4%85ce_i_recesywn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6920" y="40464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000000"/>
                </a:solidFill>
                <a:latin typeface="Arial"/>
              </a:rPr>
              <a:t>Dihibridinis kryžmini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34136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24c26"/>
                </a:solidFill>
                <a:latin typeface="Arial"/>
              </a:rPr>
              <a:t>Di</a:t>
            </a:r>
            <a:r>
              <a:rPr b="1" i="1" lang="lt-LT" sz="3200" spc="-1" strike="noStrike">
                <a:solidFill>
                  <a:srgbClr val="724c26"/>
                </a:solidFill>
                <a:latin typeface="Arial"/>
              </a:rPr>
              <a:t>hibridinis kryžminimas atliekamas tiriant dviejų požymių paveldėjim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2565360"/>
            <a:ext cx="453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Požymiai: sėklos paviršius, sėklos spal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Aleliai</a:t>
            </a:r>
            <a:r>
              <a:rPr b="1" i="1" lang="en-GB" sz="2800" spc="-1" strike="noStrike">
                <a:solidFill>
                  <a:srgbClr val="724c26"/>
                </a:solidFill>
                <a:latin typeface="Arial"/>
              </a:rPr>
              <a:t>: </a:t>
            </a: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800" spc="-1" strike="noStrike">
                <a:solidFill>
                  <a:srgbClr val="724c26"/>
                </a:solidFill>
                <a:latin typeface="Arial"/>
              </a:rPr>
              <a:t> – </a:t>
            </a: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lygios sėklos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       </a:t>
            </a:r>
            <a:r>
              <a:rPr b="1" i="1" lang="en-GB" sz="28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800" spc="-1" strike="noStrike">
                <a:solidFill>
                  <a:srgbClr val="724c26"/>
                </a:solidFill>
                <a:latin typeface="Arial"/>
              </a:rPr>
              <a:t> – </a:t>
            </a: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raukšlėtos sėk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cc3300"/>
                </a:solidFill>
                <a:latin typeface="Arial"/>
              </a:rPr>
              <a:t>       </a:t>
            </a:r>
            <a:r>
              <a:rPr b="1" i="1" lang="lt-LT" sz="2800" spc="-1" strike="noStrike">
                <a:solidFill>
                  <a:srgbClr val="cc3300"/>
                </a:solidFill>
                <a:latin typeface="Arial"/>
              </a:rPr>
              <a:t>Y- </a:t>
            </a: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geltonos sėk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cc3300"/>
                </a:solidFill>
                <a:latin typeface="Arial"/>
              </a:rPr>
              <a:t>      </a:t>
            </a:r>
            <a:r>
              <a:rPr b="1" i="1" lang="lt-LT" sz="2800" spc="-1" strike="noStrike">
                <a:solidFill>
                  <a:srgbClr val="cc3300"/>
                </a:solidFill>
                <a:latin typeface="Arial"/>
              </a:rPr>
              <a:t>y</a:t>
            </a:r>
            <a:r>
              <a:rPr b="1" i="1" lang="lt-LT" sz="2800" spc="-1" strike="noStrike">
                <a:solidFill>
                  <a:srgbClr val="724c26"/>
                </a:solidFill>
                <a:latin typeface="Arial"/>
              </a:rPr>
              <a:t>-žalios spalvos               sėk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2421000"/>
            <a:ext cx="4175280" cy="367200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F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1</a:t>
            </a: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 - 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artos hibrid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kryžmin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gau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ožymių išsiskyrim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santykiu</a:t>
            </a:r>
            <a:r>
              <a:rPr b="1" i="1" lang="lt-LT" sz="24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9 : 3 : 3 : 1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ai yra</a:t>
            </a:r>
            <a:r>
              <a:rPr b="1" i="1" lang="en-US" sz="2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tre</a:t>
            </a:r>
            <a:r>
              <a:rPr b="1" i="1" lang="lt-LT" sz="2800" spc="-1" strike="noStrike">
                <a:solidFill>
                  <a:srgbClr val="993300"/>
                </a:solidFill>
                <a:latin typeface="Arial"/>
              </a:rPr>
              <a:t>č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iasis</a:t>
            </a:r>
            <a:r>
              <a:rPr b="1" i="1" lang="lt-LT" sz="2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Arial"/>
              </a:rPr>
              <a:t>Mendelio dėsn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3"/>
          <p:cNvGrpSpPr/>
          <p:nvPr/>
        </p:nvGrpSpPr>
        <p:grpSpPr>
          <a:xfrm>
            <a:off x="2576880" y="1890720"/>
            <a:ext cx="3956400" cy="454680"/>
            <a:chOff x="2576880" y="1890720"/>
            <a:chExt cx="3956400" cy="454680"/>
          </a:xfrm>
        </p:grpSpPr>
        <p:sp>
          <p:nvSpPr>
            <p:cNvPr id="218" name="Rectangle 4"/>
            <p:cNvSpPr/>
            <p:nvPr/>
          </p:nvSpPr>
          <p:spPr>
            <a:xfrm>
              <a:off x="2576880" y="189072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5"/>
            <p:cNvSpPr/>
            <p:nvPr/>
          </p:nvSpPr>
          <p:spPr>
            <a:xfrm>
              <a:off x="3643560" y="189072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</a:t>
              </a:r>
              <a:r>
                <a:rPr b="1" lang="lt-LT" sz="2400" spc="-1" strike="noStrike">
                  <a:solidFill>
                    <a:srgbClr val="009688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6"/>
            <p:cNvSpPr/>
            <p:nvPr/>
          </p:nvSpPr>
          <p:spPr>
            <a:xfrm>
              <a:off x="4862880" y="189072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9688"/>
                  </a:solidFill>
                  <a:latin typeface="Arial"/>
                </a:rPr>
                <a:t>R</a:t>
              </a: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7"/>
            <p:cNvSpPr/>
            <p:nvPr/>
          </p:nvSpPr>
          <p:spPr>
            <a:xfrm>
              <a:off x="5929560" y="189072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Group 8"/>
          <p:cNvGrpSpPr/>
          <p:nvPr/>
        </p:nvGrpSpPr>
        <p:grpSpPr>
          <a:xfrm>
            <a:off x="1662120" y="2652840"/>
            <a:ext cx="545760" cy="3273840"/>
            <a:chOff x="1662120" y="2652840"/>
            <a:chExt cx="545760" cy="3273840"/>
          </a:xfrm>
        </p:grpSpPr>
        <p:sp>
          <p:nvSpPr>
            <p:cNvPr id="223" name="Rectangle 9"/>
            <p:cNvSpPr/>
            <p:nvPr/>
          </p:nvSpPr>
          <p:spPr>
            <a:xfrm>
              <a:off x="1662120" y="26528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0"/>
            <p:cNvSpPr/>
            <p:nvPr/>
          </p:nvSpPr>
          <p:spPr>
            <a:xfrm>
              <a:off x="1662120" y="35672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1"/>
            <p:cNvSpPr/>
            <p:nvPr/>
          </p:nvSpPr>
          <p:spPr>
            <a:xfrm>
              <a:off x="1738440" y="455760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2"/>
            <p:cNvSpPr/>
            <p:nvPr/>
          </p:nvSpPr>
          <p:spPr>
            <a:xfrm>
              <a:off x="1738440" y="547200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13"/>
          <p:cNvGrpSpPr/>
          <p:nvPr/>
        </p:nvGrpSpPr>
        <p:grpSpPr>
          <a:xfrm>
            <a:off x="2268360" y="2421000"/>
            <a:ext cx="4512960" cy="3583080"/>
            <a:chOff x="2268360" y="2421000"/>
            <a:chExt cx="4512960" cy="3583080"/>
          </a:xfrm>
        </p:grpSpPr>
        <p:sp>
          <p:nvSpPr>
            <p:cNvPr id="228" name="Line 14"/>
            <p:cNvSpPr/>
            <p:nvPr/>
          </p:nvSpPr>
          <p:spPr>
            <a:xfrm>
              <a:off x="3339000" y="2427120"/>
              <a:ext cx="0" cy="357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15"/>
            <p:cNvSpPr/>
            <p:nvPr/>
          </p:nvSpPr>
          <p:spPr>
            <a:xfrm>
              <a:off x="4486680" y="2427120"/>
              <a:ext cx="0" cy="357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16"/>
            <p:cNvSpPr/>
            <p:nvPr/>
          </p:nvSpPr>
          <p:spPr>
            <a:xfrm>
              <a:off x="5634000" y="2427120"/>
              <a:ext cx="0" cy="357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Line 17"/>
            <p:cNvSpPr/>
            <p:nvPr/>
          </p:nvSpPr>
          <p:spPr>
            <a:xfrm>
              <a:off x="2274840" y="3298320"/>
              <a:ext cx="450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8"/>
            <p:cNvSpPr/>
            <p:nvPr/>
          </p:nvSpPr>
          <p:spPr>
            <a:xfrm>
              <a:off x="2268360" y="4249080"/>
              <a:ext cx="4512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9"/>
            <p:cNvSpPr/>
            <p:nvPr/>
          </p:nvSpPr>
          <p:spPr>
            <a:xfrm>
              <a:off x="2274840" y="5126400"/>
              <a:ext cx="4506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0"/>
            <p:cNvSpPr/>
            <p:nvPr/>
          </p:nvSpPr>
          <p:spPr>
            <a:xfrm>
              <a:off x="2268360" y="2421000"/>
              <a:ext cx="4512960" cy="35830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324000" y="260280"/>
            <a:ext cx="828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724c26"/>
                </a:solidFill>
                <a:latin typeface="Arial"/>
              </a:rPr>
              <a:t>Kryžminimas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: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Lygios sėkl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geltonos spalv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aukšlėtos sėklos. žalios spal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♀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R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Y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♂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 r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Gameto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♀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; 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♂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 y 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;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97680" y="193680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Arial"/>
              </a:rPr>
              <a:t>F</a:t>
            </a: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351520" y="256536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270520" y="3500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342160" y="44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70520" y="5300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8880" y="26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21800" y="3500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350160" y="44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350160" y="5300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4160" y="26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726520" y="2708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574160" y="3500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653800" y="350028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574160" y="44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653800" y="44370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574160" y="5300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26520" y="530064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3300"/>
                </a:solidFill>
                <a:latin typeface="Arial"/>
              </a:rPr>
              <a:t>RY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877080" y="1268280"/>
            <a:ext cx="2016000" cy="511344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ts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enotip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si palikuo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ys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turė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lygias gel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tonas sėk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Genotip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Heteroz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go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agal ab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ožym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leli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95280" y="189000"/>
            <a:ext cx="7993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724c26"/>
                </a:solidFill>
                <a:latin typeface="Arial"/>
              </a:rPr>
              <a:t>Kryžminimas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: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Lygios sėkl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geltonos spalv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aukšlėtos sėklos. žalios spalvos( F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1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k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artos hibridai kry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ž</a:t>
            </a:r>
            <a:r>
              <a:rPr b="1" i="1" lang="en-US" sz="2000" spc="-1" strike="noStrike">
                <a:solidFill>
                  <a:srgbClr val="cc3300"/>
                </a:solidFill>
                <a:latin typeface="Arial"/>
              </a:rPr>
              <a:t>minami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tarpusavyj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♀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y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Gameto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♀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   ;  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♂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 y 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;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 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5"/>
          <p:cNvSpPr/>
          <p:nvPr/>
        </p:nvSpPr>
        <p:spPr>
          <a:xfrm>
            <a:off x="7061040" y="6689880"/>
            <a:ext cx="17780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89B2-E1D2-4725-8F67-8881D260FE9C}" type="slidenum">
              <a:rPr b="0" lang="en-US" sz="900" spc="-1" strike="noStrike">
                <a:solidFill>
                  <a:srgbClr val="ffffff"/>
                </a:solidFill>
                <a:latin typeface="Eras Bold IT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979640" y="227664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</a:rPr>
              <a:t>RrYy   x   RrY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468360" y="4797360"/>
            <a:ext cx="327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RY Ry rY 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0"/>
          <p:cNvSpPr/>
          <p:nvPr/>
        </p:nvSpPr>
        <p:spPr>
          <a:xfrm>
            <a:off x="5219640" y="4797360"/>
            <a:ext cx="3276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24c26"/>
                </a:solidFill>
                <a:latin typeface="Comic Sans MS"/>
              </a:rPr>
              <a:t>RY Ry rY 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"/>
          <p:cNvSpPr/>
          <p:nvPr/>
        </p:nvSpPr>
        <p:spPr>
          <a:xfrm flipH="1">
            <a:off x="1981080" y="2852640"/>
            <a:ext cx="1222560" cy="1947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2"/>
          <p:cNvSpPr/>
          <p:nvPr/>
        </p:nvSpPr>
        <p:spPr>
          <a:xfrm>
            <a:off x="5796000" y="2924280"/>
            <a:ext cx="833400" cy="18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324000" y="5589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Comic Sans MS"/>
              </a:rPr>
              <a:t>Visos galimos gametų kombinac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11"/>
          <p:cNvSpPr/>
          <p:nvPr/>
        </p:nvSpPr>
        <p:spPr>
          <a:xfrm>
            <a:off x="3606840" y="6689880"/>
            <a:ext cx="24130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Eras Bold ITC"/>
              </a:rPr>
              <a:t>copyright cmassenga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3"/>
          <p:cNvGrpSpPr/>
          <p:nvPr/>
        </p:nvGrpSpPr>
        <p:grpSpPr>
          <a:xfrm>
            <a:off x="969120" y="2805120"/>
            <a:ext cx="4396320" cy="3274200"/>
            <a:chOff x="969120" y="2805120"/>
            <a:chExt cx="4396320" cy="3274200"/>
          </a:xfrm>
        </p:grpSpPr>
        <p:sp>
          <p:nvSpPr>
            <p:cNvPr id="264" name="Rectangle 4"/>
            <p:cNvSpPr/>
            <p:nvPr/>
          </p:nvSpPr>
          <p:spPr>
            <a:xfrm>
              <a:off x="973440" y="2805120"/>
              <a:ext cx="964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5"/>
            <p:cNvSpPr/>
            <p:nvPr/>
          </p:nvSpPr>
          <p:spPr>
            <a:xfrm>
              <a:off x="969120" y="3719520"/>
              <a:ext cx="947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6"/>
            <p:cNvSpPr/>
            <p:nvPr/>
          </p:nvSpPr>
          <p:spPr>
            <a:xfrm>
              <a:off x="979920" y="4710240"/>
              <a:ext cx="90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7"/>
            <p:cNvSpPr/>
            <p:nvPr/>
          </p:nvSpPr>
          <p:spPr>
            <a:xfrm>
              <a:off x="975600" y="5624640"/>
              <a:ext cx="88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8"/>
            <p:cNvSpPr/>
            <p:nvPr/>
          </p:nvSpPr>
          <p:spPr>
            <a:xfrm>
              <a:off x="2112120" y="2805120"/>
              <a:ext cx="947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"/>
            <p:cNvSpPr/>
            <p:nvPr/>
          </p:nvSpPr>
          <p:spPr>
            <a:xfrm>
              <a:off x="2107800" y="3719520"/>
              <a:ext cx="93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0"/>
            <p:cNvSpPr/>
            <p:nvPr/>
          </p:nvSpPr>
          <p:spPr>
            <a:xfrm>
              <a:off x="2118600" y="4710240"/>
              <a:ext cx="88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1"/>
            <p:cNvSpPr/>
            <p:nvPr/>
          </p:nvSpPr>
          <p:spPr>
            <a:xfrm>
              <a:off x="2115360" y="5624640"/>
              <a:ext cx="86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2"/>
            <p:cNvSpPr/>
            <p:nvPr/>
          </p:nvSpPr>
          <p:spPr>
            <a:xfrm>
              <a:off x="3265920" y="2805120"/>
              <a:ext cx="90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3"/>
            <p:cNvSpPr/>
            <p:nvPr/>
          </p:nvSpPr>
          <p:spPr>
            <a:xfrm>
              <a:off x="3261600" y="3719520"/>
              <a:ext cx="88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4"/>
            <p:cNvSpPr/>
            <p:nvPr/>
          </p:nvSpPr>
          <p:spPr>
            <a:xfrm>
              <a:off x="3272400" y="4710240"/>
              <a:ext cx="839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5"/>
            <p:cNvSpPr/>
            <p:nvPr/>
          </p:nvSpPr>
          <p:spPr>
            <a:xfrm>
              <a:off x="3268080" y="5624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6"/>
            <p:cNvSpPr/>
            <p:nvPr/>
          </p:nvSpPr>
          <p:spPr>
            <a:xfrm>
              <a:off x="4404600" y="2805120"/>
              <a:ext cx="8856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7"/>
            <p:cNvSpPr/>
            <p:nvPr/>
          </p:nvSpPr>
          <p:spPr>
            <a:xfrm>
              <a:off x="4401360" y="3719520"/>
              <a:ext cx="86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8"/>
            <p:cNvSpPr/>
            <p:nvPr/>
          </p:nvSpPr>
          <p:spPr>
            <a:xfrm>
              <a:off x="4487400" y="47102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9"/>
            <p:cNvSpPr/>
            <p:nvPr/>
          </p:nvSpPr>
          <p:spPr>
            <a:xfrm>
              <a:off x="4559040" y="5624640"/>
              <a:ext cx="806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rry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Group 20"/>
          <p:cNvGrpSpPr/>
          <p:nvPr/>
        </p:nvGrpSpPr>
        <p:grpSpPr>
          <a:xfrm>
            <a:off x="5423400" y="2637000"/>
            <a:ext cx="3566160" cy="3944160"/>
            <a:chOff x="5423400" y="2637000"/>
            <a:chExt cx="3566160" cy="3944160"/>
          </a:xfrm>
        </p:grpSpPr>
        <p:sp>
          <p:nvSpPr>
            <p:cNvPr id="281" name="Rectangle 21"/>
            <p:cNvSpPr/>
            <p:nvPr/>
          </p:nvSpPr>
          <p:spPr>
            <a:xfrm>
              <a:off x="5423400" y="2637000"/>
              <a:ext cx="356616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pvalios/geltonos: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pvalios/</a:t>
              </a: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žali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Raukšlėtos/gelton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Raukšlėtos/žali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2"/>
            <p:cNvSpPr/>
            <p:nvPr/>
          </p:nvSpPr>
          <p:spPr>
            <a:xfrm>
              <a:off x="5531760" y="5760720"/>
              <a:ext cx="2589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9:3:3:1 </a:t>
              </a:r>
              <a:r>
                <a:rPr b="1" lang="lt-LT" sz="2400" spc="-1" strike="noStrike">
                  <a:solidFill>
                    <a:srgbClr val="b50069"/>
                  </a:solidFill>
                  <a:latin typeface="Comic Sans MS"/>
                </a:rPr>
                <a:t>fenotip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Comic Sans MS"/>
                </a:rPr>
                <a:t>santyk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23"/>
          <p:cNvGrpSpPr/>
          <p:nvPr/>
        </p:nvGrpSpPr>
        <p:grpSpPr>
          <a:xfrm>
            <a:off x="290880" y="1967040"/>
            <a:ext cx="5119200" cy="4281480"/>
            <a:chOff x="290880" y="1967040"/>
            <a:chExt cx="5119200" cy="4281480"/>
          </a:xfrm>
        </p:grpSpPr>
        <p:sp>
          <p:nvSpPr>
            <p:cNvPr id="284" name="Line 24"/>
            <p:cNvSpPr/>
            <p:nvPr/>
          </p:nvSpPr>
          <p:spPr>
            <a:xfrm>
              <a:off x="1981080" y="2527200"/>
              <a:ext cx="0" cy="370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5"/>
            <p:cNvSpPr/>
            <p:nvPr/>
          </p:nvSpPr>
          <p:spPr>
            <a:xfrm>
              <a:off x="3124080" y="2527200"/>
              <a:ext cx="0" cy="370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6"/>
            <p:cNvSpPr/>
            <p:nvPr/>
          </p:nvSpPr>
          <p:spPr>
            <a:xfrm>
              <a:off x="4267080" y="2527200"/>
              <a:ext cx="0" cy="3708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27"/>
            <p:cNvSpPr/>
            <p:nvPr/>
          </p:nvSpPr>
          <p:spPr>
            <a:xfrm>
              <a:off x="927000" y="3429000"/>
              <a:ext cx="44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28"/>
            <p:cNvSpPr/>
            <p:nvPr/>
          </p:nvSpPr>
          <p:spPr>
            <a:xfrm>
              <a:off x="927000" y="4419720"/>
              <a:ext cx="44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29"/>
            <p:cNvSpPr/>
            <p:nvPr/>
          </p:nvSpPr>
          <p:spPr>
            <a:xfrm>
              <a:off x="927000" y="5334120"/>
              <a:ext cx="4483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0"/>
            <p:cNvSpPr/>
            <p:nvPr/>
          </p:nvSpPr>
          <p:spPr>
            <a:xfrm>
              <a:off x="1205280" y="196704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31"/>
            <p:cNvSpPr/>
            <p:nvPr/>
          </p:nvSpPr>
          <p:spPr>
            <a:xfrm>
              <a:off x="2272320" y="1967040"/>
              <a:ext cx="57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32"/>
            <p:cNvSpPr/>
            <p:nvPr/>
          </p:nvSpPr>
          <p:spPr>
            <a:xfrm>
              <a:off x="3490920" y="1967040"/>
              <a:ext cx="502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33"/>
            <p:cNvSpPr/>
            <p:nvPr/>
          </p:nvSpPr>
          <p:spPr>
            <a:xfrm>
              <a:off x="4557960" y="196704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9688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34"/>
            <p:cNvSpPr/>
            <p:nvPr/>
          </p:nvSpPr>
          <p:spPr>
            <a:xfrm>
              <a:off x="290880" y="2728800"/>
              <a:ext cx="603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35"/>
            <p:cNvSpPr/>
            <p:nvPr/>
          </p:nvSpPr>
          <p:spPr>
            <a:xfrm>
              <a:off x="290880" y="3643200"/>
              <a:ext cx="5702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36"/>
            <p:cNvSpPr/>
            <p:nvPr/>
          </p:nvSpPr>
          <p:spPr>
            <a:xfrm>
              <a:off x="366840" y="4633920"/>
              <a:ext cx="502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37"/>
            <p:cNvSpPr/>
            <p:nvPr/>
          </p:nvSpPr>
          <p:spPr>
            <a:xfrm>
              <a:off x="366840" y="5548320"/>
              <a:ext cx="469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Arial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8"/>
            <p:cNvSpPr/>
            <p:nvPr/>
          </p:nvSpPr>
          <p:spPr>
            <a:xfrm>
              <a:off x="914400" y="2514600"/>
              <a:ext cx="4495680" cy="3733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50920" y="260280"/>
            <a:ext cx="820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724c26"/>
                </a:solidFill>
                <a:latin typeface="Arial"/>
              </a:rPr>
              <a:t>Kryžminimas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: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Lygios sėkl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geltonos spalvos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aukšlėtos sėklos. žalios spal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♀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y </a:t>
            </a:r>
            <a:r>
              <a:rPr b="1" i="1" lang="en-GB" sz="2000" spc="-1" strike="noStrike">
                <a:solidFill>
                  <a:srgbClr val="724c26"/>
                </a:solidFill>
                <a:latin typeface="Arial"/>
              </a:rPr>
              <a:t>x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Y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993300"/>
                </a:solidFill>
                <a:latin typeface="Arial"/>
              </a:rPr>
              <a:t>Gametos: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♀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R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Y; Ry ; rY ; 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♂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R Y  </a:t>
            </a:r>
            <a:r>
              <a:rPr b="1" i="1" lang="en-GB" sz="2000" spc="-1" strike="noStrike">
                <a:solidFill>
                  <a:srgbClr val="cc3300"/>
                </a:solidFill>
                <a:latin typeface="Arial"/>
              </a:rPr>
              <a:t>;</a:t>
            </a:r>
            <a:r>
              <a:rPr b="1" i="1" lang="lt-LT" sz="2000" spc="-1" strike="noStrike">
                <a:solidFill>
                  <a:srgbClr val="cc3300"/>
                </a:solidFill>
                <a:latin typeface="Arial"/>
              </a:rPr>
              <a:t> R y ; rY; 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" descr=""/>
          <p:cNvPicPr/>
          <p:nvPr/>
        </p:nvPicPr>
        <p:blipFill>
          <a:blip r:embed="rId1"/>
          <a:srcRect l="0" t="0" r="30820" b="4100"/>
          <a:stretch/>
        </p:blipFill>
        <p:spPr>
          <a:xfrm>
            <a:off x="395280" y="404640"/>
            <a:ext cx="4248000" cy="5718240"/>
          </a:xfrm>
          <a:prstGeom prst="rect">
            <a:avLst/>
          </a:prstGeom>
          <a:ln w="0">
            <a:noFill/>
          </a:ln>
        </p:spPr>
      </p:pic>
      <p:grpSp>
        <p:nvGrpSpPr>
          <p:cNvPr id="301" name="Group 20"/>
          <p:cNvGrpSpPr/>
          <p:nvPr/>
        </p:nvGrpSpPr>
        <p:grpSpPr>
          <a:xfrm>
            <a:off x="5136120" y="2276640"/>
            <a:ext cx="3566160" cy="3944160"/>
            <a:chOff x="5136120" y="2276640"/>
            <a:chExt cx="3566160" cy="3944160"/>
          </a:xfrm>
        </p:grpSpPr>
        <p:sp>
          <p:nvSpPr>
            <p:cNvPr id="302" name="Rectangle 21"/>
            <p:cNvSpPr/>
            <p:nvPr/>
          </p:nvSpPr>
          <p:spPr>
            <a:xfrm>
              <a:off x="5136120" y="2276640"/>
              <a:ext cx="3566160" cy="310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pvalios/geltonos: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Apvalios/</a:t>
              </a: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žali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Raukšlėtos/gelton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000000"/>
                  </a:solidFill>
                  <a:latin typeface="Comic Sans MS"/>
                </a:rPr>
                <a:t>Raukšlėtos/žalios</a:t>
              </a: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: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2"/>
            <p:cNvSpPr/>
            <p:nvPr/>
          </p:nvSpPr>
          <p:spPr>
            <a:xfrm>
              <a:off x="5244480" y="5400360"/>
              <a:ext cx="25891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b50069"/>
                  </a:solidFill>
                  <a:latin typeface="Comic Sans MS"/>
                </a:rPr>
                <a:t>9:3:3:1 </a:t>
              </a:r>
              <a:r>
                <a:rPr b="1" lang="lt-LT" sz="2400" spc="-1" strike="noStrike">
                  <a:solidFill>
                    <a:srgbClr val="b50069"/>
                  </a:solidFill>
                  <a:latin typeface="Comic Sans MS"/>
                </a:rPr>
                <a:t>fenotipo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t-LT" sz="2400" spc="-1" strike="noStrike">
                  <a:solidFill>
                    <a:srgbClr val="b50069"/>
                  </a:solidFill>
                  <a:latin typeface="Comic Sans MS"/>
                </a:rPr>
                <a:t>santyk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900000" y="1341360"/>
            <a:ext cx="1873440" cy="574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 kar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Comic Sans MS"/>
              </a:rPr>
              <a:t>hibrida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Genetikos mokslas ir jo uždavinia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Pagr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indinis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 genetikos uždavin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Ti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rti genų perdavimą iš kartos į kartą, nustatyti, kaip genuose esanti informacija virsta požymiu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–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paveldimum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Pagrindinis genetikos mokslo vienetas yra </a:t>
            </a:r>
            <a:r>
              <a:rPr b="1" i="1" lang="lt-LT" sz="3200" spc="-1" strike="noStrike">
                <a:solidFill>
                  <a:srgbClr val="993300"/>
                </a:solidFill>
                <a:latin typeface="Comic Sans MS"/>
              </a:rPr>
              <a:t>ge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entm.purdue.edu/extensiongenomics/GAME/pinkflowers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agrindinės sąvok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Genas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– DNR grandinės dalis, kurioje glūdi informacija apie vieną ar kitą požym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Aleliniai genai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- dvi geno formos (dominuojantis ir recesyvin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Dominuojantis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- stipresnis dviejų genų išreikštas požymis, žymimas didžiąja raide. (R)</a:t>
            </a:r>
            <a:r>
              <a:rPr b="0" lang="lt-L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Recesyvinis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– silpniau išreikštas alelių poros požymis, žymimas mažąja raide. (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Genotipas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– organizme esantys genai , jų kombinacijos. (pavyzdžiui. RR, Rr, rr)</a:t>
            </a:r>
            <a:r>
              <a:rPr b="0" lang="lt-L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993300"/>
                </a:solidFill>
                <a:latin typeface="Comic Sans MS"/>
              </a:rPr>
              <a:t>Fenotipas</a:t>
            </a:r>
            <a:r>
              <a:rPr b="1" i="1" lang="lt-LT" sz="2400" spc="-1" strike="noStrike">
                <a:solidFill>
                  <a:srgbClr val="000000"/>
                </a:solidFill>
                <a:latin typeface="Comic Sans MS"/>
              </a:rPr>
              <a:t> – išoriniai, fiziniai požymiai, nulemti genotipo. (pavyzdžiui raudonas, balt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i="1" lang="lt-LT" sz="4400" spc="-1" strike="noStrike">
                <a:solidFill>
                  <a:srgbClr val="000000"/>
                </a:solidFill>
                <a:latin typeface="Comic Sans MS"/>
              </a:rPr>
              <a:t>agrindinės sąvok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993300"/>
                </a:solidFill>
                <a:latin typeface="Comic Sans MS"/>
              </a:rPr>
              <a:t>Homozigotinis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  genotipas –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aleli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ų kombinacija, apimanti 2 dominantinius ar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ba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 2 recesyvinus genus (pavyzdžiui: RR ar rr)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3300"/>
                </a:solidFill>
                <a:latin typeface="Comic Sans MS"/>
              </a:rPr>
              <a:t>Heterozigotinis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 genotipas –</a:t>
            </a:r>
            <a:r>
              <a:rPr b="1" i="1" lang="lt-LT" sz="3200" spc="-1" strike="noStrike">
                <a:solidFill>
                  <a:srgbClr val="000000"/>
                </a:solidFill>
                <a:latin typeface="Comic Sans MS"/>
              </a:rPr>
              <a:t> alelių kombinacija, apimanti du skirtingus genus, dominantinį ir recesyvinį.( pavyzdžiui: Rr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Sutartiniai ženkl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P- 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ėv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♀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- motininis organ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♂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- tėvinis organiz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A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(arba kita didžioji raidė)-dominuojantis požy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a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(arba kita mažoji raidė)- recesyvinis požym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X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– kryžminimo žen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993300"/>
                </a:solidFill>
                <a:latin typeface="Comic Sans MS"/>
                <a:ea typeface="Arial"/>
              </a:rPr>
              <a:t>F</a:t>
            </a:r>
            <a:r>
              <a:rPr b="1" i="1" lang="lt-LT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- kar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000" spc="-1" strike="noStrike">
                <a:solidFill>
                  <a:srgbClr val="000000"/>
                </a:solidFill>
                <a:latin typeface="Comic Sans MS"/>
              </a:rPr>
              <a:t>Alelių pora išsidėsčiusi homologinėse chromosom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9640" y="1773360"/>
            <a:ext cx="2519640" cy="2735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29603" t="23529" r="19458" b="13666"/>
          <a:stretch/>
        </p:blipFill>
        <p:spPr>
          <a:xfrm>
            <a:off x="3203640" y="1773360"/>
            <a:ext cx="5689440" cy="44067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203640" y="5300640"/>
            <a:ext cx="647640" cy="57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8000" y="1773360"/>
            <a:ext cx="647640" cy="57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51280" y="2205000"/>
            <a:ext cx="129708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635280" y="4941720"/>
            <a:ext cx="108108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659640" y="1484280"/>
            <a:ext cx="1728720" cy="504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3300"/>
                </a:solidFill>
                <a:latin typeface="Arial"/>
              </a:rPr>
              <a:t>gam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32720" y="3141720"/>
            <a:ext cx="647640" cy="5763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04000" y="5229360"/>
            <a:ext cx="647640" cy="5760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Comic Sans MS"/>
              </a:rPr>
              <a:t>Tiriamų žirnių požymi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13450" t="0" r="0" b="0"/>
          <a:stretch/>
        </p:blipFill>
        <p:spPr>
          <a:xfrm>
            <a:off x="395280" y="1413000"/>
            <a:ext cx="8497800" cy="475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99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4400" spc="-1" strike="noStrike">
                <a:solidFill>
                  <a:srgbClr val="cc3300"/>
                </a:solidFill>
                <a:latin typeface="Comic Sans MS"/>
                <a:ea typeface="Arial"/>
              </a:rPr>
              <a:t>Peneto gardel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FG11_05b"/>
          <p:cNvPicPr/>
          <p:nvPr/>
        </p:nvPicPr>
        <p:blipFill>
          <a:blip r:embed="rId1"/>
          <a:srcRect l="5977" t="14162" r="51304" b="9872"/>
          <a:stretch/>
        </p:blipFill>
        <p:spPr>
          <a:xfrm>
            <a:off x="539640" y="2924280"/>
            <a:ext cx="3167280" cy="2663640"/>
          </a:xfrm>
          <a:prstGeom prst="rect">
            <a:avLst/>
          </a:prstGeom>
          <a:ln w="9360">
            <a:solidFill>
              <a:srgbClr val="724c26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539640" y="2924280"/>
            <a:ext cx="79236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26920" y="2924280"/>
            <a:ext cx="75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1080" y="306864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1341360"/>
            <a:ext cx="8424720" cy="11509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cc3300"/>
                </a:solidFill>
                <a:latin typeface="Comic Sans MS"/>
              </a:rPr>
              <a:t>Peneto gardelė naudojama apskaičiuoti gali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cc3300"/>
                </a:solidFill>
                <a:latin typeface="Comic Sans MS"/>
              </a:rPr>
              <a:t>gaunamų individų genotipus ir fenotip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27640" y="2781360"/>
            <a:ext cx="381636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788000" y="285264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44720" y="3357720"/>
            <a:ext cx="3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2924280"/>
            <a:ext cx="79200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Neringa Stravinskienė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6T13:50:17Z</dcterms:created>
  <dc:creator>Biologija</dc:creator>
  <dc:description/>
  <dc:language>en-US</dc:language>
  <cp:lastModifiedBy>Biologija</cp:lastModifiedBy>
  <dcterms:modified xsi:type="dcterms:W3CDTF">2010-10-28T18:53:45Z</dcterms:modified>
  <cp:revision>54</cp:revision>
  <dc:subject/>
  <dc:title>Skaidrė 1</dc:title>
</cp:coreProperties>
</file>